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10BC-35D1-4581-9203-398D64B6C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CC3B-B6D1-4C78-97D7-9DC6C221642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E604-F3D4-40F4-8F1B-CDF59F80E67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ofesorii sunt mai mult decât instructori— ei sunt facilitatori ai procesului de învăţare, implementatori, evaluatori şi proiectanţi ai lecţiilor predate în cadrul unităţii de învăţ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20D9-A211-4C5D-B27F-137EBF85206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 CD Resur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Realizare scurtatura pe desktop (+varianta din My Comput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Deschidere CD Resurse şi prezentare mod de navigare butoane şi meni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Deschidere HelpGuide (din pag principala a CD resurse sau din fold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 meniu şi a modului de navig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Ca aplicaţie intru în Essential Course şi le arăt cum să urmărească paşii pentru realizarea structurii de directo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6D22-C610-4D9E-94E6-77D758DE0BF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Se recomandă listarea structurii complete de la pag 1.07 şi a listei de verificare a portofoliulu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1.08)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pentru a lucra în mod eficient în continu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DA50-1DBB-44A5-9B8C-8D2FCDB85DE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pentru completarea cerinţel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5D32-7B2E-437E-99D7-0382C085AEB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(lectură) - 2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D94D-D0FD-471C-9E25-D40A8203446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(lectură) - 3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F323-3AB7-4383-B4F8-8DA60C62A11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entru a avea succes, Unităţile de învăţare trebuie proiectate cu scopul final în minte şi trebuie organizate în jurul unor concepte importan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DCA9-1865-4422-A4D5-8946933E189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lanificarea unităţii de învăţare nu este liniară; ea include întotdeauna întoarcerea la pasul anterior aşa cum este indicat în grafi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: răspunsul la întrebări şi completarea tabelulu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91B4-5267-4C20-A90C-43C8B3688C3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AEF8-CD2A-4149-A22A-AC01BCA2CCF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iectele care oferă mai multe oportunităţi de învăţare pot fi semnificativ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iferite în ceea ce priveşte aria tematică sau scopul şi pot fi aplicate la clase diferite şi la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ai multe niveluri de studiu. Proiectele angajează elevii în roluri active, cum ar fi rolul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elui car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ezolvă probleme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a decizia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vestighează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ocumentează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A322-4798-4F7A-9DE5-A6D353710AC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C594-D70F-4217-9FB5-30CFFB10CEF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În timp ce lucrează la proiecte, elevii îşi dezvoltă abilităţi reale, corespunzătoare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colului XXI— multe din acestea fiind solicitate de angajatorii din zilele noastre—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um ar fi capacitatea 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lucra bine cu ceilalţ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lua decizii bine gândi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avea iniţiativ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rezolva probleme complex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uto-direcţion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comunica efic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C46B-BA29-474D-83EA-1A2394632FA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işă de lucru în directorul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Modulul 1, Activitatea 4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 pe CD-ul cu resurse curricul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84FF-56D3-4C96-AE2C-A492F975073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 site Int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C248-A910-4E8C-9E78-09076C9CDAA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6A26-D934-4DAA-A5D5-751CD6219E8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5 min = Planificare în avans – Pas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3018-8A02-4DC1-8A60-A2ADE34C31A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Ghidare la intrarea pe blog si la completarea acestui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EC5D-C707-492C-9C06-A322322F828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– completare pasul 2 şi 3 (pasul 1 este completat dej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A37E-F281-4FE0-9A8D-DE04C6786F5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46B3-BA49-48DB-A9A1-59797987111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B521-4A26-45E7-9CAE-339B0E65A2C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811F-17ED-4510-9842-9A5D75809A1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Inte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each Program is a worldwide initiative to provide teachers with the skills to effectively integrate technology into existing curriculum to improve student learning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1999, the Intel Teach Program has helped over 4 million educators in more than 35 countr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goal of the Inte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each Essentials Course is to help classroom teachers develop student-centered learning through technology integration and project-based approach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se Foc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themes of the Essentials Course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ing technology effectively in the classroom to promote 21st century ski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dentifying ways students and teachers can use technology to enhance learning through research, communication, collaboration, and productivity strategies and too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viding hands-on learning and the creation of curricular units and assessments, which address state and national academic and technology standar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ilitating student-centered classrooms that encourage student self-direction and higher-order think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laborating with colleagues to improve instruction by problem solving and participating in peer reviews of un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CDB6-EC65-407E-8365-B52BC827CF4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7D56-7607-472E-AC57-E1043071DCC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8FE7-1482-4CB3-ACA2-26558EF13AE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CCA9-98E6-4BA0-BCD8-E636EE46442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a abilităţilor necesare în secolul XXI – 1.0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listă de abilităţi ale secolului XXI este prezentată în detaliu în directorul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Modulul 1,</a:t>
            </a:r>
            <a:r>
              <a:rPr b="0" i="1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Activitatea 1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 pe CD-ul cu resurse curricul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0AF5-89B7-452A-B538-BDD0DDED47C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in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aplicaţii ale elevilor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 înţeleg toate tipurile de materiale (publicaţii , prezentări, wiki sau blog) realizate de către profesori din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erspectiva elevilor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7B2D-B76F-42FB-9AC1-84AFF7E8BF5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32C0-266C-4C96-93D0-8A30A492FA2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abel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ul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este disponibil în directorul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Modulul 1, Activitate 1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 pe CD-ul cu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esurse curricul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8FBB-4F21-4609-BB70-6C4935391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F2BF-CD86-40F6-9237-88A69606F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93AD-8102-418F-BCBF-6AA293D8B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B7D4-8A14-41DB-A942-9D6DFDC01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BF0A-0198-4190-87CE-20780B96D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DB7C-4F81-4993-AE71-68B92014C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E4C9-A4CD-4D4A-B9B1-34E27B363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215F-16F2-4F91-98A6-F9702A4E5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C883-935A-4334-8D12-2AAB4EC2B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20476-7F10-4445-B8BF-2CDD1A149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9DC8-1390-4AEC-B06D-62FA0A7BD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EB9E-DA56-4DE1-B7D0-CB5B45D7E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2B97-94FF-41A3-8E3F-AE169B0F8A0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6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2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2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7" descr="GM__2313"/>
          <p:cNvPicPr/>
          <p:nvPr/>
        </p:nvPicPr>
        <p:blipFill>
          <a:blip r:embed="rId1"/>
          <a:stretch/>
        </p:blipFill>
        <p:spPr>
          <a:xfrm>
            <a:off x="0" y="0"/>
            <a:ext cx="9144000" cy="6026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intelEDU_wht_lrg [Converted]"/>
          <p:cNvPicPr/>
          <p:nvPr/>
        </p:nvPicPr>
        <p:blipFill>
          <a:blip r:embed="rId2"/>
          <a:stretch/>
        </p:blipFill>
        <p:spPr>
          <a:xfrm>
            <a:off x="6759720" y="0"/>
            <a:ext cx="1774800" cy="8859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3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287280" y="618336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93680" y="4809960"/>
            <a:ext cx="895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ntel®Teach </a:t>
            </a:r>
            <a:r>
              <a:rPr b="1" lang="ro-RO" sz="3600" spc="-1" strike="noStrike">
                <a:solidFill>
                  <a:srgbClr val="ffffff"/>
                </a:solidFill>
                <a:latin typeface="Verdana"/>
                <a:ea typeface="Arial"/>
              </a:rPr>
              <a:t>–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nstruirea</a:t>
            </a:r>
            <a:r>
              <a:rPr b="1" lang="ro-RO" sz="3600" spc="-1" strike="noStrike">
                <a:solidFill>
                  <a:srgbClr val="ffffff"/>
                </a:solidFill>
                <a:latin typeface="Verdana"/>
                <a:ea typeface="Arial"/>
              </a:rPr>
              <a:t> în societatea cunoaşteri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5C1E-43B6-42C1-98D7-B3B4E476A6D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4760" y="1182600"/>
            <a:ext cx="8469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Noile roluri ale profesor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.0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5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rofesorii sunt mai mult decât instructori –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i sunt facilitatori ai procesului de învăţare, implementatori, evaluatori şi proiectanţi ai lecţiilor din unitatea de învăţar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ciziile pe care ei le iau în procesul instruirii au un impact major asupra educaţiei elevului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În cadrul acestui curs veţi proiecta şi dezvolta resurse pentru unitatea de învăţare pe care o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edaţ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tatea poate varia, ca durată, între câteva săptămâni şi mai multe luni, dar trebui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ă facă referire la un domeniu cheie din programa şcolară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rtofoliul dumneavoastră est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zvoltat pe parcursul celor opt module ale cursulu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1904-A2CE-42CC-BC7D-B749574C9BD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246240" y="846000"/>
            <a:ext cx="4587840" cy="49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4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Crearea directorului Portofoliu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(1.0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6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Utilizarea Intel® Ghid de asistenţ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această resursă digitală veţi găsi instrucţiuni pas cu pas cu privire la modul de finalizare al abilităţilor tehnic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uteţi utiliza Intel® Ghid de asistenţă pentru a afla în mod rapid cum se realizează anumite operaţiuni pe calculator în momentul în care acestea trebuie efectuat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ntel® Ghid de asistenţă reprezintă o resursă valoroasă disponibilă atât pe parcursul participării la acest curs cât şi în viitor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19" descr="GM__2346"/>
          <p:cNvPicPr/>
          <p:nvPr/>
        </p:nvPicPr>
        <p:blipFill>
          <a:blip r:embed="rId1"/>
          <a:stretch/>
        </p:blipFill>
        <p:spPr>
          <a:xfrm>
            <a:off x="4834080" y="0"/>
            <a:ext cx="4309920" cy="59961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67D2-E1A8-4B4D-92D8-7EF8E55EDF1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4760" y="988560"/>
            <a:ext cx="809136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Realizarea directorului Portofoliu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.0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6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reaţi directorul Portofoliu după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tructura alăturată </a:t>
            </a:r>
            <a:r>
              <a:rPr b="1" lang="en-US" sz="1600" spc="-1" strike="noStrike">
                <a:solidFill>
                  <a:srgbClr val="ff5c00"/>
                </a:solidFill>
                <a:latin typeface="Verdana"/>
              </a:rPr>
              <a:t>(1.0</a:t>
            </a:r>
            <a:r>
              <a:rPr b="1" lang="ro-RO" sz="1600" spc="-1" strike="noStrike">
                <a:solidFill>
                  <a:srgbClr val="ff5c00"/>
                </a:solidFill>
                <a:latin typeface="Verdana"/>
              </a:rPr>
              <a:t>7</a:t>
            </a:r>
            <a:r>
              <a:rPr b="1" lang="en-US" sz="1600" spc="-1" strike="noStrike">
                <a:solidFill>
                  <a:srgbClr val="ff5c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nsultaţi lista de verificare a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ortofoliulu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1.08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acest curs veţi crea toate elemente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menţiona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ceste elemente formează împreună un Portofoliu pentru o unitate de învăţare completă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eţ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liza revizuiri ale produselor p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re le creaţi împreună cu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echipierii dumneavoastră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356080" y="257040"/>
            <a:ext cx="3787920" cy="405288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9" descr=""/>
          <p:cNvPicPr/>
          <p:nvPr/>
        </p:nvPicPr>
        <p:blipFill>
          <a:blip r:embed="rId2"/>
          <a:stretch/>
        </p:blipFill>
        <p:spPr>
          <a:xfrm>
            <a:off x="4114800" y="3071880"/>
            <a:ext cx="9144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1C9F-6A01-40EA-8232-505FF65D7D4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3" descr="GM__2346"/>
          <p:cNvPicPr/>
          <p:nvPr/>
        </p:nvPicPr>
        <p:blipFill>
          <a:blip r:embed="rId1"/>
          <a:stretch/>
        </p:blipFill>
        <p:spPr>
          <a:xfrm>
            <a:off x="4834080" y="0"/>
            <a:ext cx="4309920" cy="5996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85840" y="704880"/>
            <a:ext cx="42876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5: Vizualizarea Şablonului Planului Unităţii de învăţ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09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ţ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curtătură pentru documentul „Start”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dacă nu aţi făcut-o dej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rniţi CD-ul cu resurse curricular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lvaţi şablonu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lanului Unităţii de învăţare în directo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lan_unitate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n portofoliul dumneavoastă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zualizaţi forma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lanului de unitate de învăţare, revizuiţ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pid diversele secţiuni şi notaţi descrierile în câmpurile a căro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are vă este solicitată.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10 – 1.12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1428-930F-4708-A6E4-AC9032302D0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4508640" y="1039680"/>
            <a:ext cx="456408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2 -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Examinarea unui proiect de instruire b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 preda bine şi a implica elevii în procesul de învăţare, necesită o planificare şi o proiectare atentă a unităţii de învăţar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: Revizuirea documentări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ff5c00"/>
                </a:solidFill>
                <a:latin typeface="Verdana"/>
              </a:rPr>
              <a:t>(1.13 – 1.14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coperirea în profunzime a conţinutulu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i importante referitoare la organizarea înţelege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aluare continu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rcini de lucru autenti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3" descr="GM__2186"/>
          <p:cNvPicPr/>
          <p:nvPr/>
        </p:nvPicPr>
        <p:blipFill>
          <a:blip r:embed="rId1"/>
          <a:stretch/>
        </p:blipFill>
        <p:spPr>
          <a:xfrm>
            <a:off x="0" y="14400"/>
            <a:ext cx="4429080" cy="6011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38320" y="100080"/>
            <a:ext cx="440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1A8A-B991-4FD6-B6E2-0CE36262B66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535200" y="0"/>
            <a:ext cx="55375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Activitatea 2 - Examinarea unui proiect de instruire bu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: Revizuirea documentării - Învăţarea prin proiecte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14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zvoltă cunoştinţe, abilităţi şi atitudini într-o arie tematică prin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sarcini de lucru extins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romovează investigaţia, demonstraţii autentice al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produselor învăţării şi performanţelor elevilo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a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legătura dintre obiectivele operaţionale ş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gândirea de nivel superior a elevilor cu contexte de viaţă real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nclud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strategii instrucţional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variate care îi implică pe elevi indiferent de stilul lor de învăţar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Deseori, elevi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olaborează cu experţi din exterior sau cu membri ai comunităţi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U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tiliz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z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ă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hnologi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pentru a sprijin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învăţare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U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tiliz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z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ă diferite metode 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valuare pentru a asigura calitatea în procesul de învăţar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5c00"/>
                </a:solidFill>
                <a:latin typeface="Verdana"/>
              </a:rPr>
              <a:t>Vizualizaţi beneficiile prezentate la pag. 1.15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3" descr="GM__2186"/>
          <p:cNvPicPr/>
          <p:nvPr/>
        </p:nvPicPr>
        <p:blipFill>
          <a:blip r:embed="rId1"/>
          <a:srcRect l="0" t="0" r="11580" b="0"/>
          <a:stretch/>
        </p:blipFill>
        <p:spPr>
          <a:xfrm>
            <a:off x="0" y="406440"/>
            <a:ext cx="3514680" cy="56196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80" y="0"/>
            <a:ext cx="37083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8B35-4D98-4D5F-A83C-95AC624DC39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4760" y="1050840"/>
            <a:ext cx="84693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2 - Examinarea unui proiect de instruire bu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2: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Analiza planificării Unităţii de învăţar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.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15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e parcursu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stui curs veţi realiza un Portofoliu de Unitate de învăţar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in parcurgere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rmătoarelor etap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abilirea obiectivelor operaţionale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rnind de la competenţele specifice/obiectivele de referinţă şi abilităţile necesare în secolului XX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2. Dezvoltarea de întrebări generatoare a proiectelor inter-pluri-transdisciplinare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entru a-i ajuta pe elevi să se axeze pe teme şi concepte importante care vizeaz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exiunile între discipline şi a acestora cu viaţa real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3. Planificarea evaluări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re să demonstreze centrarea pe procesul de învăţar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l elevilor prin evaluări continu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4. Activităţi de proiectar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re să includă nevoile de învăţare ale elevilor, să fac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egătura cu lumea exterioară şi să includă activităţi care implică utilizarea tehnologiei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5BB5-5BD9-4010-866D-DB3711109CD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2952720" y="177840"/>
            <a:ext cx="6191280" cy="54864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5680" y="863640"/>
            <a:ext cx="38498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Activitatea 2 - Examinarea unui proiect de instruire bu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93760" y="3672000"/>
            <a:ext cx="50562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re sunt paşii despre care cunoaşteţi cel mai mult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re sunt domeniile despre care trebuie să aflaţi mai multe 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ompletaţi tabelul de la pag. 1.17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1F5B-B300-457C-86B7-B4F9415D8D2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4695840" y="1039680"/>
            <a:ext cx="437688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2 -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Examinarea unui proiect de instruire b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3: Revizuirea cerinţelor de întocmire a Portofoliulu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17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fat: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rezentaţi criteriile de evaluare înainte ca elevii să înceapă proiectul pentru ca ei să înţeleagă care sunt cerinţele dascălului cu privire la realizarea acestuia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ualizaţi cerinţele de realizare a Portofoliului. (1.18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idenţiaţi sau subliniaţi zonele din grila de cerinţe care se referă la obiectivele p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re le-aţi identificat la pasul 2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3" descr="GM__2186"/>
          <p:cNvPicPr/>
          <p:nvPr/>
        </p:nvPicPr>
        <p:blipFill>
          <a:blip r:embed="rId1"/>
          <a:stretch/>
        </p:blipFill>
        <p:spPr>
          <a:xfrm>
            <a:off x="0" y="14400"/>
            <a:ext cx="4429080" cy="6011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38320" y="100080"/>
            <a:ext cx="440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F474-E1AC-4B85-B11C-ECDA7DBCC7E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760" y="0"/>
            <a:ext cx="82375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720" y="266760"/>
            <a:ext cx="9016920" cy="56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3 - Analizarea proiec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Învăţarea pe bază de proiect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(1.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0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5c00"/>
                </a:solidFill>
                <a:latin typeface="Verdana"/>
              </a:rPr>
              <a:t>Proiectele angajează elevii în roluri activ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rezolvă problem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ia decizi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investigheaz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se documenteaz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Listă de verificare a caracteristicilor proiectulu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levii se află în centrul procesului de instruir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iectul se axează pe obiectivele operaţionale aliniate competenţelor specifice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espectiv obiectivelor de referinţă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iectul este generat de întrebări esenţiale, de unitate şi de conţinut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iectul implică metode de evaluare multiple şi continu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iectul implică sarcini de lucru şi activităţi conectate, care se desfăşoară într-o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numită perioadă de timp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Proiectul are conexiuni cu lumea reală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levii îşi demonstrează cunoştinţele şi abilităţile prin intermediul performării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priu-zise şi a produselor care sunt publicate, prezentate sau afişat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ehnologia sprijină şi îmbunătăţeşte procesul de învăţare al elevilor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bilităţile de gândire de nivel superior sunt incluse în activitatea de proiect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Strategiile de instruire variate sprijină diverse stiluri de învăţar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D8E4-C2F8-48F3-A233-7E31B1ED6A4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Picture 15" descr="IM000069"/>
          <p:cNvPicPr/>
          <p:nvPr/>
        </p:nvPicPr>
        <p:blipFill>
          <a:blip r:embed="rId1"/>
          <a:stretch/>
        </p:blipFill>
        <p:spPr>
          <a:xfrm>
            <a:off x="0" y="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06000" y="5387760"/>
            <a:ext cx="793764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Modul 1 –Predarea prin proiecte</a:t>
            </a:r>
            <a:br>
              <a:rPr sz="1300"/>
            </a:br>
            <a:r>
              <a:rPr b="0" lang="en-US" sz="13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endParaRPr b="1" lang="en-US" sz="13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3DEF-7436-44A2-9781-EB732D4133D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5120" y="0"/>
            <a:ext cx="823752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72520" y="255600"/>
            <a:ext cx="8566200" cy="32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3 - Analizarea proiectel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văţarea pe bază de proiect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nt.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algn="just">
              <a:spcBef>
                <a:spcPts val="1199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Verdana"/>
              </a:rPr>
              <a:t>Nu toate unităţile de învăţare trebuie să includă un proiect, însă în momentul în care</a:t>
            </a:r>
            <a:r>
              <a:rPr b="1" lang="ro-RO" sz="1600" spc="-1" strike="noStrike">
                <a:solidFill>
                  <a:srgbClr val="ff5c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5c00"/>
                </a:solidFill>
                <a:latin typeface="Verdana"/>
              </a:rPr>
              <a:t>învăţarea pe bază de proiect este adecvată, integrarea unui proiect poate stimula</a:t>
            </a:r>
            <a:r>
              <a:rPr b="1" lang="ro-RO" sz="1600" spc="-1" strike="noStrike">
                <a:solidFill>
                  <a:srgbClr val="ff5c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5c00"/>
                </a:solidFill>
                <a:latin typeface="Verdana"/>
              </a:rPr>
              <a:t>semnificativ învăţarea elevilo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ista diferit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nivelur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le modelări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nităţilor de învăţar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azate pe proiect de la început până la sfârş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clud un proiect ca şi experienţă culminantă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clud un proiect într-un anumit segment al unităţii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82520" y="3375000"/>
            <a:ext cx="8742240" cy="29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as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Vizualizarea Portofoliilor (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Vezi CD–Modul 1–Activitatea 4–Link Intel Educationa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l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zualizaţi portofoliile situate în directorul Portofolii de p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D-ul de resurs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u vizualizaţi exemplele de pe site-ul web Intel® Education.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http://educate.intel.com/ro/ProjectDesign</a:t>
            </a:r>
            <a:r>
              <a:rPr b="1" lang="ro-RO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http://educate.intel.com/</a:t>
            </a:r>
            <a:r>
              <a:rPr b="1" lang="ro-RO" sz="1600" spc="-1" strike="noStrike">
                <a:solidFill>
                  <a:srgbClr val="000000"/>
                </a:solidFill>
                <a:latin typeface="Verdana"/>
                <a:ea typeface="Arial"/>
              </a:rPr>
              <a:t>en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/ProjectDesign</a:t>
            </a:r>
            <a:r>
              <a:rPr b="1" lang="ro-RO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)(1.21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aţi în considerare modul în care aceste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bordează diversele elemente din lista de verificare a caracteristicilor proiectulu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În ce mod au fost incorporate proiectele în unităţile de învăţar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m aţi putea utiliza ideile de proiect pentru a îmbunătăţi predarea unităţii d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învăţare selectat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CD23-1B3A-4C5F-8672-0E2F0F753D5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4960" y="803160"/>
            <a:ext cx="836280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4: Proiectarea unei publicaţii pentru explicarea proiec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oiectarea publicaţie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3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iec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i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ublicaţia pentru a prezen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eptul de proiect unui public cum ar fi elevi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umneavoastră, părinţii acestora sau alţi membri ai comunităţii şcolare posibil interesaţ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ândiţi-vă la modul în care utilizaţi în prezent metoda proiectului în instruire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iectaţi-vă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ublicaţia astfel încât să răspundă întrebărilor pe care consideraţi că vi le vor adresa elevi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au părinţii acestora.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ezentarea publicaţiei la începutul unităţii de învăţare poate ajuta l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tabilirea aşteptărilor şi la pregătirea elevilor pentru activităţile ulterio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3591000" y="507204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1000" y="507204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1AD2-D01C-4945-A676-057364238EB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4960" y="802800"/>
            <a:ext cx="83628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4: Proiectarea unei publicaţii pentru explicarea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oiec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Documentarea cu privire la învăţarea bazată pe proiect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nt.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plicaţi asupra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  <a:ea typeface="Arial"/>
              </a:rPr>
              <a:t>http://educate.intel.com/ro/ProjectDesign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  <a:ea typeface="Arial"/>
              </a:rPr>
              <a:t>http://educate.intel.com/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  <a:ea typeface="Arial"/>
              </a:rPr>
              <a:t>en</a:t>
            </a:r>
            <a:r>
              <a:rPr b="1" lang="en-GB" sz="2000" spc="-1" strike="noStrike">
                <a:solidFill>
                  <a:srgbClr val="0860a8"/>
                </a:solidFill>
                <a:latin typeface="Verdana"/>
                <a:ea typeface="Arial"/>
              </a:rPr>
              <a:t>/ProjectDesign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au fişie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„Resurse educaţionale pe bază de proiect”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din directorul Resurse – Resurse Internet de pe CD-ul cu resurse curricul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Marcaţi şi etichetaţi paginile în care găsiţi resurse pentru proiectul dumneavoastră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asul 3: Vizualizarea exemplelor de publicaţii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5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zualizaţi exemplele de publicaţii de pe CD-ul cu resurse pentru idei cu privire la design-ul şi conţinutu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priei publicaţii (buletin informativ, ziar, broşură sau afiş)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-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rectorul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odulul 1, Activitatea 4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 pe CD-ul cu resurs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rricular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1D93-FDC4-4DEC-B64E-7F9935939FF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4960" y="802800"/>
            <a:ext cx="83628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5: Crearea publicaţiei propri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Cum încep elaborarea publicaţie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6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tilizaţi template-urile din CD resurse (Modulul 1 – Activitatea 5) sau de pe site pentru a alege varianta cea mai potrivită proiectului dumneavoastr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1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Utilizaţi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Intel® Ghid de asistenţă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 pentru realizarea publicaţiei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alvaţi cât mai des publicaţia în folder-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A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istenţă_unitat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n directorul Portofoliu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asul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2-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3: Adăugarea elementelor de bază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şi suplimentare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la publicaţia propri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ro-RO" sz="1800" spc="-1" strike="noStrike">
                <a:solidFill>
                  <a:srgbClr val="ff0000"/>
                </a:solidFill>
                <a:latin typeface="Verdana"/>
              </a:rPr>
              <a:t>1.27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tilizaţ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l® Ghid de asistenţ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pentru modificarea publicaţie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C532-E11A-444A-883D-0B56A1A0BC4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17520" y="614520"/>
            <a:ext cx="8362800" cy="8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6: Reflecţii asupra propriei învăţăr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Revizuirea modululu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9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90440" y="1565280"/>
            <a:ext cx="8678880" cy="4402080"/>
          </a:xfrm>
          <a:prstGeom prst="rect">
            <a:avLst/>
          </a:prstGeom>
          <a:noFill/>
          <a:ln w="2844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98360" y="1630440"/>
            <a:ext cx="86518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Modul 1 Elemente cheie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Cercetarea asupra învăţării şi predării indică importanţa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Acoperirii materiei de studiu în profunzim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Ideilor de bază pentru organizarea procesului de înţeleg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Evaluării continu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Sarcinilor semnificative, autenti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Proiectele se axează pe scenarii care oferă numeroase oportunităţi de studiu. Acestea implică elevii în investigaţii de rezolvare a problemelor şi a altor sarcini importante. Proiectele realizează legătura cu viaţa de fiecare zi şi abordează probleme real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Paşii pentru realizarea proiectelor includ următoarele acţiuni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1. Stabilirea obiectivelor operaţiona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2. Dezvoltarea Întrebărilor care generează proiecte inter-pluri-transdsiplin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3. Realizarea unui plan de evalu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4. Proiectarea activităţil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66F9-5F6A-4CD9-9BCB-891B23F769A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506840" y="371520"/>
            <a:ext cx="463716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6: Reflecţii asupra propriei învăţă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Pasul 2: Introducerea opiniilor în Blog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(1.29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Reflectaţi asupra activităţilor, abilităţilor şi abordărilor din acest modul în blog-ul personal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ccesați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http://ISCBihor1AS.21classes.c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http://ISCBihor1NA.21classes.c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dăugaţi la site-uri favorite adresa URL de mai su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349"/>
              </a:spcBef>
              <a:buClr>
                <a:srgbClr val="ff5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5c00"/>
                </a:solidFill>
                <a:latin typeface="Verdana"/>
              </a:rPr>
              <a:t>LOGI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Logaţi-vă cu user-name-ul şi parola ce vi    s-au furnizat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eflectaţi asupra modului în care acest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m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dul v-a ajutat să vă creaţi şi să vă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lanificaţi Unitatea de învăţare.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m pot proiectele să-i ajute pe elevii mei să atingă competenţele specifice şi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biectivele de referinţă şi să îşi dezvolte abilităţi le necesare în secolul XXI?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m pot utiliza proiectele pentru a îmbunătăţi procesul de învăţare al elevilor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3" descr="GM__2186"/>
          <p:cNvPicPr/>
          <p:nvPr/>
        </p:nvPicPr>
        <p:blipFill>
          <a:blip r:embed="rId1"/>
          <a:stretch/>
        </p:blipFill>
        <p:spPr>
          <a:xfrm>
            <a:off x="0" y="14400"/>
            <a:ext cx="4429080" cy="60116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38320" y="100080"/>
            <a:ext cx="440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7C5B-D0FF-4669-A409-A602C78DFD8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33000" y="673200"/>
            <a:ext cx="8521560" cy="53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lanificarea în ava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: Reflecţii asupra Planului Unităţii de învăţare şi asupra aspectului proiectulu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1.31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ăspundeţi la întrebările de la paginile 1.31 şi 1.32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asul 2: Vizarea abilităţilor de nivel superior şi cele necesare în secolul XXI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1.32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dentificaţ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bilităţi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 nivel superior şi cele necesare în secolul XX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aplicabile proiectului dumneavoastră răspunzând la întrebările de mai jo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introduce aceste abilităţi în unitatea mea de învăţare?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b ce formă acestea vor “lua viaţă” în clasă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Pasul 3: Localizarea resurselor materia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olectaţi materiale </a:t>
            </a: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(cum ar fi manuale, materiale de sprijin, aşteptările de la</a:t>
            </a:r>
            <a:r>
              <a:rPr b="0" i="1" lang="ro-RO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nivelul clasei, lista cu competenţe specifice-obiective de referinţă, exemple de aplicaţii ale elevilor etc.)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care vă vor ajuta să dezvoltaţi planul unităţii de învăţar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592F-769C-4881-ADDB-879B66942A6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Ce urmează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45960" y="950760"/>
          <a:ext cx="8528040" cy="4530960"/>
        </p:xfrm>
        <a:graphic>
          <a:graphicData uri="http://schemas.openxmlformats.org/drawingml/2006/table">
            <a:tbl>
              <a:tblPr/>
              <a:tblGrid>
                <a:gridCol w="2803680"/>
                <a:gridCol w="5724360"/>
              </a:tblGrid>
              <a:tr h="578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2: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aborare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trebărilor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generare a proiectelor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şi s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abilirea strategiei de evaluar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competenţelor specifice/obiectivelor de referinţ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obiectivelor operaţi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întrebărilor care generează proiecte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unor strategii de evaluare 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tocmirea graficului de evalu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ei prezentării în vederea evaluării iniţi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3E54-3519-431E-8034-8E9A39997D1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3809880" y="1300320"/>
            <a:ext cx="4851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0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13" descr="intelEDU_4c_lrg [Converted]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2007-03-05LogoSIVECO15aniCertif_Ro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8B9C-608C-4F65-9C4F-70302FC408B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Unde ne aflăm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12840" y="739800"/>
          <a:ext cx="8470800" cy="2712960"/>
        </p:xfrm>
        <a:graphic>
          <a:graphicData uri="http://schemas.openxmlformats.org/drawingml/2006/table">
            <a:tbl>
              <a:tblPr/>
              <a:tblGrid>
                <a:gridCol w="2415960"/>
                <a:gridCol w="60548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1: Predarea prin proiect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redarea prin proiect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i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nţelegerea imaginii de ansamblu a portofoliului şi a componentelor s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lizarea unei prezentări a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dentificarea </a:t>
                      </a:r>
                      <a:r>
                        <a:rPr b="1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bilităţilor necesare în secolul XXI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aplicabile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Dezvoltarea variantei iniţiale a planului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5840" y="3476160"/>
            <a:ext cx="8510400" cy="259740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rIns="0" tIns="91440" bIns="91440" anchor="t">
            <a:normAutofit/>
          </a:bodyPr>
          <a:p>
            <a:pPr lvl="1" marL="246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area esenţială: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um poate fi utilizată tehnologia în modul cel mai eficient pentru 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susţine şi pentru a evalua achiziţiile elevil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ările modulului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: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um pot să-i ajut pe elevi să atingă competenţele specifice/obiectivele 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referinţă şi să îşi dezvolte abilităţile necesare în secolul XXI prin metod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proiectului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um se pot utiliza proiectele pentru a îmbunătăţi procesul de învăţare a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levil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D5C6-F79B-4E14-BD00-4BCC86CF273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Competenţe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i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 abilităţi necesare în secolul XXI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9160" y="390240"/>
            <a:ext cx="829944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Responsabilitate şi capacitate de adaptare - 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Exersarea responsabilităţii personale şi a flexibilităţii în contexte legate de propria persoană, loc de muncă şi comunitate; stabilirea şi atingerea unor standarde şi ţeluri ridicate pentru sine şi pentru ceilalţi; tolerarea ambiguităţii.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Competenţe de comunicare - 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Înţelegerea şi realizarea unei comunicări eficiente verbale, scrise şi multimedia, într-o varietate de forme şi contexte.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Creativitate şi curiozitate intelectuală</a:t>
            </a:r>
            <a:r>
              <a:rPr b="1" lang="en-US" sz="1300" spc="-1" strike="noStrike">
                <a:solidFill>
                  <a:srgbClr val="0860a8"/>
                </a:solidFill>
                <a:latin typeface="Verdana"/>
              </a:rPr>
              <a:t> -  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Dezvoltarea, implementarea şi comunicarea ideilor noi altor persoane; deschidere şi receptivitate la nou, perspective variate.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Gândire critică şi gândire sistemică</a:t>
            </a:r>
            <a:r>
              <a:rPr b="1" lang="en-US" sz="1300" spc="-1" strike="noStrike">
                <a:solidFill>
                  <a:srgbClr val="0860a8"/>
                </a:solidFill>
                <a:latin typeface="Verdana"/>
              </a:rPr>
              <a:t> -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 Exersarea gândirii în ce priveşte înţelegerea şi realizarea unor alegeri complexe; înţelegerea conexiunilor dintre sisteme.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Abilităţi de informare şi educare media</a:t>
            </a:r>
            <a:r>
              <a:rPr b="1" lang="en-US" sz="1300" spc="-1" strike="noStrike">
                <a:solidFill>
                  <a:srgbClr val="0860a8"/>
                </a:solidFill>
                <a:latin typeface="Verdana"/>
              </a:rPr>
              <a:t> - 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Analizarea, accesarea, administrarea, integrarea, evaluarea, şi crearea de informaţii în diverse forme şi medii.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Capacităţi de colaborare şi interpersonale -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 Demonstrarea capacităţilor de lucru în echipă şi de conducere; adaptarea la diverse roluri şi responsabilităţi; colaborarea productivă cu ceilalţi; conduită empatică; respectarea altor puncte de vedere.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Identificarea, formularea şi soluţionarea problemelor -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 capacitatea de a depista, formula, analiza şi rezolva probleme.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Învăţare independentă</a:t>
            </a:r>
            <a:r>
              <a:rPr b="0" lang="ro-RO" sz="9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(auto-formare)</a:t>
            </a: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 -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 Monitorizarea propriilor nevoi de înţelegere şi învăţare; localizarea resurselor corespunzătoare; transferul cunoştinţelor dintr-un domeniu în altul.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Responsabilitate socială -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 Acţionarea în mod responsabil, ţinând cont de interesele comunităţii; demonstrarea unui comportament etic în contexte legate de propria persoană, loc de muncă şi comunitate. 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Sursă: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 Parteneriat pentru competenţele secolului XXI (</a:t>
            </a:r>
            <a:r>
              <a:rPr b="0" lang="ro-RO" sz="1300" spc="-1" strike="noStrike" u="sng">
                <a:solidFill>
                  <a:srgbClr val="ff5c00"/>
                </a:solidFill>
                <a:uFillTx/>
                <a:latin typeface="Verdana"/>
              </a:rPr>
              <a:t>www.21stcenturyskills.org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). Utilizat cu permisiune.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7839000" y="5372280"/>
            <a:ext cx="466920" cy="218880"/>
          </a:xfrm>
          <a:custGeom>
            <a:avLst/>
            <a:gdLst>
              <a:gd name="textAreaLeft" fmla="*/ 14040 w 466920"/>
              <a:gd name="textAreaRight" fmla="*/ 452880 w 466920"/>
              <a:gd name="textAreaTop" fmla="*/ 14040 h 218880"/>
              <a:gd name="textAreaBottom" fmla="*/ 204840 h 218880"/>
            </a:gdLst>
            <a:ahLst/>
            <a:rect l="textAreaLeft" t="textAreaTop" r="textAreaRight" b="textAreaBottom"/>
            <a:pathLst>
              <a:path w="46037" h="21600">
                <a:moveTo>
                  <a:pt x="0" y="0"/>
                </a:moveTo>
                <a:lnTo>
                  <a:pt x="46037" y="0"/>
                </a:lnTo>
                <a:lnTo>
                  <a:pt x="46037" y="21600"/>
                </a:lnTo>
                <a:lnTo>
                  <a:pt x="0" y="21600"/>
                </a:lnTo>
                <a:close/>
              </a:path>
              <a:path fill="lightenLess" w="46037" h="21600">
                <a:moveTo>
                  <a:pt x="0" y="0"/>
                </a:moveTo>
                <a:lnTo>
                  <a:pt x="46037" y="0"/>
                </a:lnTo>
                <a:lnTo>
                  <a:pt x="44637" y="1400"/>
                </a:lnTo>
                <a:lnTo>
                  <a:pt x="1400" y="1400"/>
                </a:lnTo>
                <a:close/>
              </a:path>
              <a:path fill="darken" w="46037" h="21600">
                <a:moveTo>
                  <a:pt x="46037" y="0"/>
                </a:moveTo>
                <a:lnTo>
                  <a:pt x="46037" y="21600"/>
                </a:lnTo>
                <a:lnTo>
                  <a:pt x="44637" y="20200"/>
                </a:lnTo>
                <a:lnTo>
                  <a:pt x="44637" y="1400"/>
                </a:lnTo>
                <a:close/>
              </a:path>
              <a:path fill="darkenLess" w="46037" h="21600">
                <a:moveTo>
                  <a:pt x="46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7" y="20200"/>
                </a:lnTo>
                <a:close/>
              </a:path>
              <a:path fill="lighten" w="46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37" h="21600">
                <a:moveTo>
                  <a:pt x="16012" y="10800"/>
                </a:moveTo>
                <a:lnTo>
                  <a:pt x="30025" y="3794"/>
                </a:lnTo>
                <a:lnTo>
                  <a:pt x="30025" y="17806"/>
                </a:lnTo>
                <a:close/>
              </a:path>
            </a:pathLst>
          </a:custGeom>
          <a:solidFill>
            <a:srgbClr val="a6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DDDC-9CC0-45A4-A488-2939266E4FB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- P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rimii paş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1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Să facem cunoştinţă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.01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troducerea trainer-ului şi a participanţilor. În prezentare trebuie inclu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Nume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rma de învăţământ, clasa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/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lasele, precum şi disciplina de pred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sunt aşteptările de la acest cu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1491-96AE-4E98-B9DC-07D78DBCC17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4760" y="688680"/>
            <a:ext cx="8469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2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rezentarea cursului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Intel</a:t>
            </a:r>
            <a:r>
              <a:rPr b="1" lang="en-US" sz="16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Teach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– Predarea în societatea cunoaşterii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1.01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copul cursului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ă ajute cadrele didactice să utilizeze tehnologiile IT în stimularea imaginaţiei elevilor şi să le faciliteze transferul învăţării pentru viaţa de fiecare zi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in intermediu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rsului veţi putea formula şi răspunde la întrebări cu privire la modalităţi eficiente de 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tiliza calculatoarele pentru îmbunătăţirea procesul de predare- învăţare. Întrebare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senţială a cursului se poate formula astfel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um poate fi utilizată tehnologia în modul cel mai eficient pentru a sprijini şi a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evalua achiziţiile elevil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copul nostru în ceea ce vă priveşte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1.02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ste ca dumneavoastră să vă dezvoltaţi competenţa de a crea un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rtofoliu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entru o unitate de în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pe care apoi să îl utilizaţi la clasă pentru a ridic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ivelul de performanţă a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levilo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880E-29A9-4077-94A2-CF4F7DE44D6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3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4440" y="660240"/>
          <a:ext cx="8701200" cy="2621160"/>
        </p:xfrm>
        <a:graphic>
          <a:graphicData uri="http://schemas.openxmlformats.org/drawingml/2006/table">
            <a:tbl>
              <a:tblPr/>
              <a:tblGrid>
                <a:gridCol w="2803680"/>
                <a:gridCol w="58975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1: Predarea prin proiec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redarea prin proiect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i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nţelegerea imaginii de ansamblu a portofoliului şi a componenetelor s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lizarea unei prezentări a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dentificarea abilităţilor necesare în secolul XXI aplicabile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Dezvoltarea variantei iniţiale a planului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16000" y="3321000"/>
          <a:ext cx="8746920" cy="2621160"/>
        </p:xfrm>
        <a:graphic>
          <a:graphicData uri="http://schemas.openxmlformats.org/drawingml/2006/table">
            <a:tbl>
              <a:tblPr/>
              <a:tblGrid>
                <a:gridCol w="2874960"/>
                <a:gridCol w="58719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2: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aborare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trebărilor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generare a proiectelor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şi s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abilirea strategiei de evaluar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competenţelor specifice/obiectivelor de referinţ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obiectivelor operaţi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întrebărilor care generează proiecte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unor strategii de evaluare 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tocmirea graficului de evalu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ei prezentării în vederea evaluării iniţi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CE70-8098-48FB-8C4D-4BA9FAA2FF2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3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4440" y="546120"/>
          <a:ext cx="8701200" cy="2987640"/>
        </p:xfrm>
        <a:graphic>
          <a:graphicData uri="http://schemas.openxmlformats.org/drawingml/2006/table">
            <a:tbl>
              <a:tblPr/>
              <a:tblGrid>
                <a:gridCol w="2527200"/>
                <a:gridCol w="61740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3: Realizarea conexiun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Internetului ca mijloc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prijinire a predării şi învăţăr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wiki pentru a facilita schimbul de idei şi cooperare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ţelegerea legii drepturilor de autor şi utilizarea corectă a informaţi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ui document care să cuprindă lucrările cit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ntegrarea resurselor de pe Internet în unitatea de învăţare pentru a sprijini documentarea, comunicarea, colaborarea, rezolvarea problemelor şi/sau alte abilităţi necesare în secolul 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unei resurse de colaborare on-line în scopul de a discuta despre unităţile de învăţar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16000" y="3535200"/>
          <a:ext cx="8746920" cy="2560680"/>
        </p:xfrm>
        <a:graphic>
          <a:graphicData uri="http://schemas.openxmlformats.org/drawingml/2006/table">
            <a:tbl>
              <a:tblPr/>
              <a:tblGrid>
                <a:gridCol w="2541600"/>
                <a:gridCol w="62053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4: Crearea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plicaţiei elev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TI pentru realizare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nor aplicaţii din perspectiv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lev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strategiilor pentru utilizarea sigură, responsabilă şi corespunzătoare a Internetului de către ele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unor aplicaţii ale elevilor (publicaţii ale elevilor, a unei prezentări, wiki sau blog pentru a demonstra procesul de învăţare al elevilo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oiectarea procedurilor de instruire pentru unitatea de învăţ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uto-evaluarea </a:t>
                      </a:r>
                      <a:r>
                        <a:rPr b="0" i="1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plicaţiei elevului</a:t>
                      </a: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DADE-3616-4CDA-9510-8CBB78CB6DC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4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44440" y="546120"/>
          <a:ext cx="8701200" cy="3195720"/>
        </p:xfrm>
        <a:graphic>
          <a:graphicData uri="http://schemas.openxmlformats.org/drawingml/2006/table">
            <a:tbl>
              <a:tblPr/>
              <a:tblGrid>
                <a:gridCol w="2527200"/>
                <a:gridCol w="6174000"/>
              </a:tblGrid>
              <a:tr h="37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5: Evaluarea proiectelor elev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evaluării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ative şi sumat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Obţinerea de feed-back pentru a îmbunătăţi </a:t>
                      </a:r>
                      <a:r>
                        <a:rPr b="0" i="1" lang="en-US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</a:t>
                      </a:r>
                      <a:r>
                        <a:rPr b="0" i="1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icaţiile </a:t>
                      </a:r>
                      <a:r>
                        <a:rPr b="0" i="1" lang="en-US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</a:t>
                      </a:r>
                      <a:r>
                        <a:rPr b="0" i="1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levil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xplorarea căilor de implicare a elevilor în procesul de evalu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practicilor de evalu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zumatul evaluării pentru unitatea de învăţ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unei evaluări sumative a </a:t>
                      </a:r>
                      <a:r>
                        <a:rPr b="0" i="1" lang="en-US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</a:t>
                      </a:r>
                      <a:r>
                        <a:rPr b="0" i="1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icaţiilor elevil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exemplelor produse din perspectiva elevilor în baza evaluării suma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planului unităţii de învăţ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16000" y="3773520"/>
          <a:ext cx="8746920" cy="2305080"/>
        </p:xfrm>
        <a:graphic>
          <a:graphicData uri="http://schemas.openxmlformats.org/drawingml/2006/table">
            <a:tbl>
              <a:tblPr/>
              <a:tblGrid>
                <a:gridCol w="2541600"/>
                <a:gridCol w="6205320"/>
              </a:tblGrid>
              <a:tr h="350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6: Planificare pentru diferenţierea instruir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prijinirea elevilor în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ocesul auto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ării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xplorarea strategiilor pentru instruire diferenţiat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ei evaluări care sa încurajeze auto-formarea elevulu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de materiale pentru sprijinirea elevil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Planului Unităţii de Învăţare pentru a include un spaţiu de acomodare şi manifestare pentru toţi elevi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 în blog-ul person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E91C-2816-4931-A0F3-21CAF3DC051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5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44440" y="546120"/>
          <a:ext cx="8701200" cy="3027240"/>
        </p:xfrm>
        <a:graphic>
          <a:graphicData uri="http://schemas.openxmlformats.org/drawingml/2006/table">
            <a:tbl>
              <a:tblPr/>
              <a:tblGrid>
                <a:gridCol w="2527200"/>
                <a:gridCol w="6174000"/>
              </a:tblGrid>
              <a:tr h="37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7: Facilitare pentru integrarea tehnologi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ţelegerea calităţii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acilitator a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ofesor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xplorarea strategiilor de interogare pentru formarea abilităţilor de gândire de nivel superi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uto-evaluarea abilităţii de facilitator într-un proces de instruire centrat pe ele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de materiale necesare pentru facilitarea procesului de învăţ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planului unităţii de învăţ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uto-evaluarea portofoliului unităţii de învăţare şi apoi revizuirea acestu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 în blog-ul personal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Localizarea resurselor de pe Internet pentru profesor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16000" y="3598920"/>
          <a:ext cx="8746920" cy="2388960"/>
        </p:xfrm>
        <a:graphic>
          <a:graphicData uri="http://schemas.openxmlformats.org/drawingml/2006/table">
            <a:tbl>
              <a:tblPr/>
              <a:tblGrid>
                <a:gridCol w="2541600"/>
                <a:gridCol w="6205320"/>
              </a:tblGrid>
              <a:tr h="349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8: Prezentarea portofoli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chimb de exprienţă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u privire la propri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iscutarea modului în care se face managementul tehnologiei în instruirea elevilo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tocmirea documentelor de managemen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egătirea pentru prezent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Oferirea şi primirea de feed-back cu privire la portofoli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valuarea cursului Intel®Teach – Predarea în societatea cunoaşter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emi1laptopf</cp:lastModifiedBy>
  <cp:lastPrinted>2006-11-14T00:45:04Z</cp:lastPrinted>
  <dcterms:modified xsi:type="dcterms:W3CDTF">2010-11-19T16:39:23Z</dcterms:modified>
  <cp:revision>196</cp:revision>
  <dc:subject/>
  <dc:title>Presentation Title Goes Here</dc:title>
</cp:coreProperties>
</file>